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488-BE09-4069-ACE9-88297B8C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648-1651-4EC3-A6D2-D41BDE70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B91-6103-4A7C-A62A-BD90C920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6B6-5F09-4728-B3A5-1E4DC2E8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F12-41D8-4CF2-90B1-3E4179E0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895-CC09-4A4C-A0B6-64749436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3D4-16FD-451C-AB3F-EECBF9A3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937-E81C-4840-8B76-E203D85C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A8A-ADFD-4507-94D3-0D0F0B79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580-178C-41CC-A900-EBF75FE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C39-75E2-4F3F-A30D-7FFA0C2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C10-827B-42DA-9EB0-532B92F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387-7605-467E-927C-AABA8CFCA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ver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viole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oi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64000"/>
            <a:ext cx="663876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9:59:13Z</dcterms:created>
  <dc:creator>Helen</dc:creator>
  <dc:description/>
  <dc:language>en-US</dc:language>
  <cp:lastModifiedBy>Helen</cp:lastModifiedBy>
  <dcterms:modified xsi:type="dcterms:W3CDTF">2010-05-11T20:02:42Z</dcterms:modified>
  <cp:revision>1</cp:revision>
  <dc:subject/>
  <dc:title>bleu</dc:title>
</cp:coreProperties>
</file>